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5CE3-8D2F-401F-9F4E-26588B50D3D4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4A4-B1EC-4F44-A284-7D644A0F4CC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ilarepa 10 €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é en 1960, Eric-Emmanuel Schmitt est devenu en dix ans l'auteur de théâtre le plus joué en France comme à l'étranger. Milarepa fait partie d'une trilogie, avec Monsieur Ibrahim et les fleurs du Coran et Oscar et la dame ro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mon fait chaque nuit le même rêve dont une femme énigmatique lui livre la clef : il est la réincarnation de l'oncle de Milarepa, le célèbre ermite tibétain du XIème siècle, qui vouait à son neveu une haine inexplicable. Pour sortir du cycle des renaissances, Simon doit raconter l'histoire des deux hommes, s'identifiant à eux au point de confondre leur identité à la sienne. Mais où commence le rêve, où finit le réel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'Évangile selon Pilate est le deuxième roman écrit par l'auteur français Éric-Emmanuel Schmitt. Il est paru en 200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l raconte les événements de la fin de la vie de Jésus et des semaines suivantes à travers le regard de Jésus, puis celui du préfet Ponce Pil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mière partie. Dans les jardins de Gethsemani, Jésus réfléchit à sa vie et aux derniers moments de son parcours. Surtout, il pense à ce qui arrivera le matin suivant. Quand les soldats viendront l'arrêter, le plan qu'il a mis au point avec Judas Iscariote pour faire connaître la parole de Dieu à tous, sera lancé. Mais, Jésus doute : est-il vraiment le fils de Dieu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euxième partie. Le préfet romain, Ponce Pilate, explique par des lettres à son frère comment il a mené la mission de retrouver le cadavre d'un crucifié nommé Jésus. Cette disparition semble agiter les Juifs et la femme de Pilate qui a été convertie par le prophète en ques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36594-3B6E-44E0-A666-12792BF9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071AC-4114-4625-AAE5-004297B7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804F6-B5D1-4113-B087-46419428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F6523-9DE7-486C-B21A-890A483E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76205-3CE1-4862-BAD0-1A61E577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3640" y="4759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3F4EE-83C4-42BD-AC47-489B8FDA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E590F-E711-4560-B05E-F485E3E8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FDCE0-65AE-43C1-B9A8-CD8A489C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47658-8BA8-4C1A-99D0-E03F4510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70C28-E175-49F0-BBCB-538C9E75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713C0-6F94-4FF1-A441-6D05AF89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42100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356360"/>
            <a:ext cx="264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93AE0E-5FD0-43F6-BFF9-10E50CF2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23640" y="475920"/>
            <a:ext cx="6202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35636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421000"/>
            <a:ext cx="40158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56360"/>
            <a:ext cx="8229600" cy="17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ortrait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8242200" y="6524640"/>
            <a:ext cx="8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JLL-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index_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Calligraph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8BC6-74F7-4113-A1F4-055CBD55DB84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73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333399"/>
                </a:solidFill>
                <a:latin typeface="Comic Sans MS"/>
              </a:rPr>
              <a:t>ÉRIC-EMMANUEL SCHMI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Mediagraphi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Girard, Josée.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, étude guidé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Baie-Comeau, 2006, 24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Pierre, Catherine. </a:t>
            </a: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, dossier pédagogiqu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, Antigone, 2005, 41 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Contact. L’Encyclopédie de la création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: http://www.contacttv.net/i_extraits_video.php?id_rubrique=26 (consulté le 12 octobre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Éric-Emmanuel Schmitt. Le site officiel, http://www.eric-emmanuel-schmitt.com/ (consulté le 12 octobre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Biographi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Né en 196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ainte-Foy-lès-Lyon (20000 h.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ents professeurs d'éducation physiqu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ère boxeu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Études en philosoph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’abord, enseigna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Vit à Brux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france-map"/>
          <p:cNvPicPr/>
          <p:nvPr/>
        </p:nvPicPr>
        <p:blipFill>
          <a:blip r:embed="rId1"/>
          <a:stretch/>
        </p:blipFill>
        <p:spPr>
          <a:xfrm>
            <a:off x="5292720" y="2349360"/>
            <a:ext cx="3238560" cy="3557880"/>
          </a:xfrm>
          <a:prstGeom prst="rect">
            <a:avLst/>
          </a:prstGeom>
          <a:ln w="12600">
            <a:solidFill>
              <a:srgbClr val="333399"/>
            </a:solidFill>
            <a:miter/>
          </a:ln>
        </p:spPr>
      </p:pic>
      <p:sp>
        <p:nvSpPr>
          <p:cNvPr id="95" name="Oval 14"/>
          <p:cNvSpPr/>
          <p:nvPr/>
        </p:nvSpPr>
        <p:spPr>
          <a:xfrm>
            <a:off x="7020000" y="4005360"/>
            <a:ext cx="936720" cy="6476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oeuvre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4402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S’est d’abord fait connaître au théât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1993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Libert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1997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A aussi écrit un essai sur Dider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9782226109637-g"/>
          <p:cNvPicPr/>
          <p:nvPr/>
        </p:nvPicPr>
        <p:blipFill>
          <a:blip r:embed="rId1"/>
          <a:stretch/>
        </p:blipFill>
        <p:spPr>
          <a:xfrm>
            <a:off x="5580000" y="2060640"/>
            <a:ext cx="2438640" cy="37447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œuvre (suite)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4691160" cy="41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A écrit des romans, do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’Évangile selon Pilat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1994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a vie avec Mozart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A écrit des récits qui forment le « Cycle de l’invisible 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ilarepa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199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Monsieur Ibrahim et les fleurs du Coran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1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Oscar et la dame rose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2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000" spc="-1" strike="noStrike">
                <a:solidFill>
                  <a:srgbClr val="000000"/>
                </a:solidFill>
                <a:latin typeface="Arial"/>
              </a:rPr>
              <a:t>L’Enfant de Noé</a:t>
            </a:r>
            <a:r>
              <a:rPr b="0" lang="fr-CA" sz="2000" spc="-1" strike="noStrike">
                <a:solidFill>
                  <a:srgbClr val="000000"/>
                </a:solidFill>
                <a:latin typeface="Arial"/>
              </a:rPr>
              <a:t> (200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HBschmitt_os"/>
          <p:cNvPicPr/>
          <p:nvPr/>
        </p:nvPicPr>
        <p:blipFill>
          <a:blip r:embed="rId1"/>
          <a:srcRect l="21459" t="0" r="21837" b="0"/>
          <a:stretch/>
        </p:blipFill>
        <p:spPr>
          <a:xfrm>
            <a:off x="5724360" y="2276640"/>
            <a:ext cx="2909880" cy="410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Lucida Calligraphy"/>
              </a:rPr>
              <a:t>Son œuvre (suite)</a:t>
            </a: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3683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333399"/>
                </a:solidFill>
                <a:latin typeface="Arial"/>
              </a:rPr>
              <a:t>Il a scénarisé deux de ses œuvr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Le Libert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20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Arial"/>
              </a:rPr>
              <a:t>Monsieur Ibrahim et les fleurs de Cora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(200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monsieur_ibrahim_et_les_fleurs_du_c_1"/>
          <p:cNvPicPr/>
          <p:nvPr/>
        </p:nvPicPr>
        <p:blipFill>
          <a:blip r:embed="rId1"/>
          <a:stretch/>
        </p:blipFill>
        <p:spPr>
          <a:xfrm>
            <a:off x="6692760" y="2349360"/>
            <a:ext cx="2416320" cy="338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ibertin"/>
          <p:cNvPicPr/>
          <p:nvPr/>
        </p:nvPicPr>
        <p:blipFill>
          <a:blip r:embed="rId2"/>
          <a:stretch/>
        </p:blipFill>
        <p:spPr>
          <a:xfrm>
            <a:off x="4224240" y="2349360"/>
            <a:ext cx="2435400" cy="33591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" descr="oscar_dame_rose"/>
          <p:cNvPicPr/>
          <p:nvPr/>
        </p:nvPicPr>
        <p:blipFill>
          <a:blip r:embed="rId1"/>
          <a:stretch/>
        </p:blipFill>
        <p:spPr>
          <a:xfrm>
            <a:off x="5229360" y="0"/>
            <a:ext cx="3914640" cy="31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Oscar_italien"/>
          <p:cNvPicPr/>
          <p:nvPr/>
        </p:nvPicPr>
        <p:blipFill>
          <a:blip r:embed="rId2"/>
          <a:stretch/>
        </p:blipFill>
        <p:spPr>
          <a:xfrm>
            <a:off x="5508720" y="3429000"/>
            <a:ext cx="2209680" cy="333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" name="Picture 12" descr="Oscar_jeu"/>
          <p:cNvPicPr/>
          <p:nvPr/>
        </p:nvPicPr>
        <p:blipFill>
          <a:blip r:embed="rId3"/>
          <a:stretch/>
        </p:blipFill>
        <p:spPr>
          <a:xfrm>
            <a:off x="1979640" y="0"/>
            <a:ext cx="1666800" cy="229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Oscar_pub"/>
          <p:cNvPicPr/>
          <p:nvPr/>
        </p:nvPicPr>
        <p:blipFill>
          <a:blip r:embed="rId4"/>
          <a:stretch/>
        </p:blipFill>
        <p:spPr>
          <a:xfrm>
            <a:off x="7286760" y="2781360"/>
            <a:ext cx="1857240" cy="261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Copie de n153517"/>
          <p:cNvPicPr/>
          <p:nvPr/>
        </p:nvPicPr>
        <p:blipFill>
          <a:blip r:embed="rId5"/>
          <a:stretch/>
        </p:blipFill>
        <p:spPr>
          <a:xfrm>
            <a:off x="0" y="2705040"/>
            <a:ext cx="3009960" cy="415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Copie de Oscar 44"/>
          <p:cNvPicPr/>
          <p:nvPr/>
        </p:nvPicPr>
        <p:blipFill>
          <a:blip r:embed="rId6"/>
          <a:stretch/>
        </p:blipFill>
        <p:spPr>
          <a:xfrm>
            <a:off x="3132000" y="3187800"/>
            <a:ext cx="2286000" cy="367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Copie de Oscar illustré"/>
          <p:cNvPicPr/>
          <p:nvPr/>
        </p:nvPicPr>
        <p:blipFill>
          <a:blip r:embed="rId7"/>
          <a:stretch/>
        </p:blipFill>
        <p:spPr>
          <a:xfrm>
            <a:off x="3670200" y="404640"/>
            <a:ext cx="180360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Les thèmes de son œuvre</a:t>
            </a:r>
            <a:br>
              <a:rPr sz="4000"/>
            </a:br>
            <a:r>
              <a:rPr b="0" lang="fr-CA" sz="1800" spc="-1" strike="noStrike">
                <a:solidFill>
                  <a:srgbClr val="000000"/>
                </a:solidFill>
                <a:latin typeface="Lucida Calligraphy"/>
              </a:rPr>
              <a:t>(selon </a:t>
            </a:r>
            <a:r>
              <a:rPr b="0" i="1" lang="fr-CA" sz="1800" spc="-1" strike="noStrike">
                <a:solidFill>
                  <a:srgbClr val="000000"/>
                </a:solidFill>
                <a:latin typeface="Lucida Calligraphy"/>
              </a:rPr>
              <a:t>Wikipedia)</a:t>
            </a:r>
            <a:endParaRPr b="0" lang="en-US" sz="18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Mise en scène de personnages célèbr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Sigmund Freud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Diderot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e Libertin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Ponce Pilate, Jésus-Christ et Judas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Évangile selon Pilate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dolf Hitler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a Part de l'autr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La relig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e bouddhi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ilarepa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'islam et le judaï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onsieur Ibrahim et les fleurs du Coran,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Enfant de Noé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Le christianisme dans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Évangile selon Pilate et Oscar et la dame rose 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333399"/>
                </a:solidFill>
                <a:latin typeface="Arial"/>
              </a:rPr>
              <a:t>Réflexion sur la place de l'enfant dans la fami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Monsieur Ibrahim et les fleurs du Coran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Oscar et la dame rose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CA" sz="1600" spc="-1" strike="noStrike">
                <a:solidFill>
                  <a:srgbClr val="000000"/>
                </a:solidFill>
                <a:latin typeface="Arial"/>
              </a:rPr>
              <a:t>L'Enfant de Noé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À chaque fois, un enfant adopte une nouvelle famille, un nouveau pè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908000" y="190080"/>
            <a:ext cx="7236000" cy="361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Sa pièce </a:t>
            </a:r>
            <a:r>
              <a:rPr b="0" i="1" lang="fr-CA" sz="3000" spc="-1" strike="noStrike">
                <a:solidFill>
                  <a:srgbClr val="000000"/>
                </a:solidFill>
                <a:latin typeface="Arial"/>
              </a:rPr>
              <a:t>Le Visiteur</a:t>
            </a: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 a remporté trois Moliè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Il a remporté le prix de L’Académie française en 200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Son œuvre est traduite dans 40 pay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000000"/>
                </a:solidFill>
                <a:latin typeface="Arial"/>
              </a:rPr>
              <a:t>L’auteur français contemporain le plus lu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evangile_pilate"/>
          <p:cNvPicPr/>
          <p:nvPr/>
        </p:nvPicPr>
        <p:blipFill>
          <a:blip r:embed="rId1"/>
          <a:stretch/>
        </p:blipFill>
        <p:spPr>
          <a:xfrm>
            <a:off x="3635280" y="4005360"/>
            <a:ext cx="1927440" cy="287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 vie avec Mozart"/>
          <p:cNvPicPr/>
          <p:nvPr/>
        </p:nvPicPr>
        <p:blipFill>
          <a:blip r:embed="rId2"/>
          <a:stretch/>
        </p:blipFill>
        <p:spPr>
          <a:xfrm>
            <a:off x="5435640" y="4005360"/>
            <a:ext cx="1957320" cy="2879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1c928d4-c16c-4ec1-a187-00593d8ed0d8"/>
          <p:cNvPicPr/>
          <p:nvPr/>
        </p:nvPicPr>
        <p:blipFill>
          <a:blip r:embed="rId3"/>
          <a:stretch/>
        </p:blipFill>
        <p:spPr>
          <a:xfrm>
            <a:off x="1763640" y="3978360"/>
            <a:ext cx="188136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L76PNJ7D"/>
          <p:cNvPicPr/>
          <p:nvPr/>
        </p:nvPicPr>
        <p:blipFill>
          <a:blip r:embed="rId4"/>
          <a:stretch/>
        </p:blipFill>
        <p:spPr>
          <a:xfrm>
            <a:off x="7394400" y="3978360"/>
            <a:ext cx="1785960" cy="2879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La%20parte%20de%20lautre"/>
          <p:cNvPicPr/>
          <p:nvPr/>
        </p:nvPicPr>
        <p:blipFill>
          <a:blip r:embed="rId5"/>
          <a:stretch/>
        </p:blipFill>
        <p:spPr>
          <a:xfrm>
            <a:off x="0" y="4005360"/>
            <a:ext cx="1805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Calligraphy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23640" y="475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Lucida Calligraphy"/>
              </a:rPr>
              <a:t>Quelques idées d’Éric-Emmanuel Schmitt</a:t>
            </a:r>
            <a:endParaRPr b="0" lang="en-US" sz="4000" spc="-1" strike="noStrike">
              <a:solidFill>
                <a:srgbClr val="000000"/>
              </a:solidFill>
              <a:latin typeface="Lucida Calligraphy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2637000"/>
            <a:ext cx="8569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Aller sur le site officiel de Schmit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oir et entendre Schmitt à l’émission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Cultiver sa capacité d’émerveillement », p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À l’approche de la mort », p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Profession de foi », p.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Je ne suis pas l’écrivain que j’aurais voulu être », p.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« Quand l’écrivain se met à table », p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3:24:51Z</dcterms:created>
  <dc:creator>Jean-Louis Lessard</dc:creator>
  <dc:description/>
  <dc:language>en-US</dc:language>
  <cp:lastModifiedBy>Sarah Shackelford</cp:lastModifiedBy>
  <dcterms:modified xsi:type="dcterms:W3CDTF">2009-08-07T19:47:38Z</dcterms:modified>
  <cp:revision>19</cp:revision>
  <dc:subject/>
  <dc:title>Diapositive 1</dc:title>
</cp:coreProperties>
</file>